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BE0-37B9-4F60-867C-B22FEB7E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80F-59F6-438B-AC0E-2ED88FB2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772-B4F4-467E-8ECD-FB558557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0B3-4C83-416F-9047-FB6421D1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89F-A6EE-4C26-A7E3-B91514BA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8DF-05A8-47AB-93DF-A444DC6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246-27D6-4AA8-9CEE-B58A004D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2AE-7672-415A-B411-276E9E04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CE5-8610-4F7E-A576-D8E3E7F9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2C0-9881-4B1E-B5DD-0266F36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43D-5F70-4B5A-A29C-28E36CC2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CD8-7634-424F-BEDF-D8A91D83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1FFE-C13D-41C0-88C9-E2D2F580BAC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GLAMENTO COMERCIOS Y SERVICI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45656" t="25221" r="664" b="6250"/>
          <a:stretch/>
        </p:blipFill>
        <p:spPr>
          <a:xfrm>
            <a:off x="395280" y="40464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45656" t="22269" r="664" b="6250"/>
          <a:stretch/>
        </p:blipFill>
        <p:spPr>
          <a:xfrm>
            <a:off x="0" y="0"/>
            <a:ext cx="7694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45103" t="24237" r="664" b="12766"/>
          <a:stretch/>
        </p:blipFill>
        <p:spPr>
          <a:xfrm>
            <a:off x="324000" y="836640"/>
            <a:ext cx="61927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3T15:57:16Z</dcterms:created>
  <dc:creator>Impacto</dc:creator>
  <dc:description/>
  <dc:language>en-US</dc:language>
  <cp:lastModifiedBy>Impacto</cp:lastModifiedBy>
  <dcterms:modified xsi:type="dcterms:W3CDTF">2020-10-13T16:12:43Z</dcterms:modified>
  <cp:revision>1</cp:revision>
  <dc:subject/>
  <dc:title>REGLAMENTO COMERCIOS Y SERVICIO.</dc:title>
</cp:coreProperties>
</file>